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13.png" ContentType="image/pn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36.png" ContentType="image/png"/>
  <Override PartName="/ppt/media/image8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3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696D4-061D-4F3B-A316-BB329A2112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F1FEF7-B04B-4EF9-BD23-089BD556E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52E4C6-7D4E-4EA2-AF7F-CD7AA85B4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519E-4395-473D-9AA7-785249FE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83B4-93BC-4342-92D3-E5F25FB7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66C7-78EB-4A16-B0D6-B6E01266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F3EB-5ADD-43DD-A7CC-FD001AB2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CB62-88B2-421C-B07E-7A78D45F5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DB3F-0DDE-4BD3-9D04-40638543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72F9-46F0-4563-B0C2-6520A3DD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8223-694D-4090-AC28-328A8C42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C7C4-F418-46B0-92C0-EDA8B245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52D1-190D-4423-94F3-1682421B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8CEC-6DFC-41F2-BA9B-B037A927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0056-5C30-4A03-987E-C2C91D55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B4C6-103E-405B-8759-DA248DA2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1B21-AE7E-434D-A9AF-A82867B7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5FE9-183A-4035-9B3F-90966DA2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3BE9-1EDF-4C6A-A3FA-A231391F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9453-6CEF-4D7E-8AB5-EEB32010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29C6B-3F17-41D8-9E71-445B5903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F3D7B-FC6B-4F47-B91A-9FC023DF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CB62F-6036-4ECE-9E06-29987E7D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23EB6-4002-4BD4-AA2E-358A462B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D6EFE-241E-495F-B883-34FDBDB1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74A-FC0E-4549-8765-9926F418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E2BCC-73ED-4B88-AE11-ECE2F375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99EC5-3AF6-4121-8591-92421C44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569D9-04E8-43A8-B85B-B592386D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AF5FE-F6DE-432A-B495-8E491904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1131E-91A1-46FC-9773-6F7F7A11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A719A-C48C-4876-89FF-448D878F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BECF3-B5EB-4E74-AF2D-F1DF01AE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882A9-926B-4FDF-BE75-18097342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316C1-6971-4B9C-A935-3AF33290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E3DAF-AFB8-4A46-AE08-17815465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92EB-84F9-491B-9365-2EFEDD48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36F92-0907-4551-9BB6-A6D40DB2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83062-9C1D-437F-9A60-7D70200D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00E43-AAAC-4766-88C1-A8D941FF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969E5-66FC-474C-BD1C-DEDFB9A3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4A110-6C38-4EE2-B607-9129E8C7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C53CA-4A45-4D30-9DB7-2227EDF0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A1A53-2601-4A2E-B75C-B6DF3287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B73D0-6805-4ED9-99D0-692AAE17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39A70-E106-4ADE-925B-22E63657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7159D-5038-4554-AE0A-16E3728C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8F27-31A0-4516-8D00-6A87B836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7AD09-0FCC-44EA-B863-C4AF7E9E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FCE59-D7EB-4873-B2F0-31474981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C562B-4F55-4E8A-844F-25F9041F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0C65A-3470-4BB1-BD4A-80EFFA95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55EB6-8A16-4233-B9A2-920696B5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05ECB-82DC-4C2D-90AF-58AB4F7D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4A7E0-73D8-4DE2-A68A-BD85055A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7FC93-93AF-44A1-A260-5125C5CA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FAB07-DE80-4FE1-B8C1-CE5B38AE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E007C-163F-4536-AED1-541E9595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70C-C9F6-41E0-A327-153EE684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FC6F8-8D2B-4392-AAA6-F0A52760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BA80F-5593-43A6-A0FB-D7CB99D8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577FE-D4A2-49D5-B057-9BD78F95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FCD80-3BD2-4491-A706-51BCAE3E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2DFDF-11A5-4E47-BFC8-CE8FD335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15C28-C2C6-4359-934D-7E967211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BE0D4-4CF2-4C13-B45E-E2C965CB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09235-EEF6-4A67-9FB4-E08B4C35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561B0-8A7B-4692-854F-B8DA06D0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54DE1-656E-4A80-AB06-4DB837D2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0E3D-BF1B-4320-A56F-34F4F24E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CBB7B-4509-4D81-8444-546D206F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660FD-6BC9-42F3-8947-AD8418B2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78057-159E-4638-9BFE-3084EDD5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7751E-9525-4859-8C56-A452F7CE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A984F-3795-4601-A2B5-A600B3D6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FA9B3-D342-45BD-8775-AFC0148E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5414F-9586-45BF-B7CE-0BF1524D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DD0D2-A7EF-43C3-BE11-E0B71238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F5E91-AD15-4251-B6F4-47CEF0D4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6843B-5E4C-4390-864D-850AEC50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7A7C-D18E-41DA-BEE0-6E190E47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80083-BC76-43A7-BC9E-A15F4C45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EE769-81A4-4ADF-BB1E-B8D75CA7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905C7-AA60-4628-93B8-D732A787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0A75D-F3CE-4336-9DEF-D1CC7706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E1CE1-7AF0-4ACA-9DBA-09DC0F97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C7C08-A349-4DA2-852B-416A053A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540C5-EF48-4A9B-A80D-917A865F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9185C-68A5-4167-A369-9AB1DC00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7449D-155F-41AB-8F0C-CE6ED6D8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D61A7-CE8D-4616-BFE0-79F0096F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12F5-BEED-4A4C-A5AA-E9EEB2D4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9E381-0AFB-492A-A3C9-BFAA94A0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34406-EFA2-473B-A19B-5C9F7485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86F62-E829-4C0D-93C8-A7CA3CF2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8A02C-2C02-4922-8137-43A61F99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4508A-6EB0-4F90-AF1D-0A53B063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21E61-A52D-455D-9690-91319B5A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D03CC-ED16-454E-8B41-D8538F8F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2F425E-6D03-4FEF-A2E5-83F9E340A92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86C3B3-A5E5-489F-8CFA-E8177F7790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3C6B2B-438A-4977-BA9A-16F6629815BF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8E5B09-C9D0-43A3-8C9C-E544CBA4CD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778F7-47A2-4064-A8D6-DC5BA295BCB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D7A8B-1749-46DD-9124-31F6E5F07E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B581E-8D27-4F6A-9BAB-14EE0443F60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21566-1EB2-4A97-97ED-DF142A71A4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34FF4-EB64-4BC2-A657-95C417B3303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F4B3F2-99C6-42DA-BD97-319A88F336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381A0A-EA6E-4D17-B8F1-65B6123B23C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CE51ED-8E64-4441-9316-2ACD9478C9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0E0393-D710-4793-9727-9BD0A693B93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EF28A9-7D09-4AB6-A356-7ADFDAB95C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0D8076-1938-4F8E-8833-DC9213F352DB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3B3255-D015-4CAE-83C7-DFBF018E6A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78880" cy="2036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1869-189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beral Republican Party formed in 1872 due to wave of disgust w/ political corrup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race Greeley nominated as presidential candidate in 187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ditor of New York Tribune (exposed a lot of Grant’s corruption)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nt us another term”- Grant wins ele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Panic of 1873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verspeculation (too much expansio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lation depreciated the value of the greenba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Resumption Act of 1875-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quired government to withdraw greenbacks from circulation &amp; redeem paper currency in gold (in 1879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“Redemption Day” came, few actually traded in greenbacks b/c value had increas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ublican “hard money” policy had political backlash—&gt; election of democratic H.O.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Gilded Age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ame given to post-Civil War era by Mark Twa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Republica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supported personal moral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idwest, Northeast (rural, small town)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mocra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Roman Catholics &amp; Lutherans; tolerated differences; opposed a single moral standard for a whole societ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outh, Northern industrial citie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Stalwar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supported system of swapping civil service jobs for votes, led by Roscoe Conk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pposed by “Half-Breeds” (James G. Blaine)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Hayes- Tilden Standoff, 1876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lection of 187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ublican Candidate: Rutherford B. Hay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mocratic Candidate: Samuel Tild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lden won popular vote but was 1 vote shy of winning Electoral Colle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winner in three states: Louisiana, Florida &amp; South Caroli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o would count votes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resident of Senate was Republica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peaker of the House was Democra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ompromise of 1877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t up an electoral commission of 15 men from Senate, House &amp; Supreme Cour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o determine which party wins electio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ublicans (Hayes) win ele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mocrats outraged but agree to let Hayes take office if they withdrew troops from LA &amp; SC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The Civil Rights Act of 1875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supposedly guaranteed equal accommodations in public places &amp; prohibited racial discrimin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ater declared unconstitutional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ast act of radical republicans 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874800" y="1417680"/>
            <a:ext cx="76197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Post-Reconstruction South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mocrats resumed power in the south &amp; exercised discrimination upon blac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arecropping &amp; tenant farm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op-Lien”- storekeepers extended credit to small farmers in return for a lien in their lan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armers remained in debt to merchant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ditions not much better than slaver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3062160" y="4587840"/>
            <a:ext cx="28386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Jim Crow Laws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gal codes of segregation in the sou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acted literacy requirements, voter-registration laws &amp; poll taxes to ensure disenfranchisement of South’s black pop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lessy v. Ferguson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“separate but equal” facilities are constitutional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 reality, life for blacks was unequal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ord # of blacks lynch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5475240" y="4997520"/>
            <a:ext cx="3211560" cy="14605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1362240" y="5321160"/>
            <a:ext cx="2139840" cy="11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ass Conflicts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ailroad Strik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orkers went on strike when their pay was cu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ayes sent troops to quell unres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mmigrants coming to US for work, disappointed when they found n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hinese Exclusion Act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United States prohibited all further immigration from Chin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25" name="Text Placeholder 29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3971880" cy="53276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4275000" y="2254320"/>
            <a:ext cx="464508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people, good general=good presid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experienced politici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 us have peace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nt nominated as Republican candid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ratio Seymour- Democratic candid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oody Shirt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nt w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gave Grant his margin of victory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2"/>
          <a:stretch/>
        </p:blipFill>
        <p:spPr>
          <a:xfrm>
            <a:off x="3781440" y="5376960"/>
            <a:ext cx="148284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Garfield &amp; Arthur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James A. Garfield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publican candidate, elected president in 188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e was shot by Charles J. Giteau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razed Chicago lawyer (Stalwart) who didn’t get job he wanted in gov’t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ied 11 weeks later (Sept. 19, 1881)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Chester Arthur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alwart, Garfield’s VP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came presid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urprised everyone by calling for civil service reform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endleton Ac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rks end of spoils system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6853320" y="4656240"/>
            <a:ext cx="1743120" cy="20620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3306600" y="5156280"/>
            <a:ext cx="134172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Election of 1884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mocratic Candidate: Grover Clevel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publicans dug for dirt and discovered an affair &amp; illegitimate so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ublican Candidate: James Bla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ated that the Republicans were the party of “Rum, Romanism &amp; Rebellion” (likely part of reason he lost the electio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ugwump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Republican w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witched parties to suppo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eveland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5742000" y="4043520"/>
            <a:ext cx="320040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“</a:t>
            </a: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Old Grover” Takes Over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rst democratic president since Buchan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laced thousands of federal employees w/ Democra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toed a bill to provide seeds to TX farmers affected by drough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government should not support the people”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o vetoed several military pension bill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64646"/>
                </a:solidFill>
                <a:latin typeface="Lucida Sans Unicode"/>
              </a:rPr>
              <a:t>Cleveland Battles for Lower Tariff 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owing surplus of money in Treasury from high tariffs during w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eveland proposes lower tariff to bring lower prices to consum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urt nations’ factories &amp; economy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riff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big issu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1888 ele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Benjamin Harriso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nominated as Republican candid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ins election (Cleveland wins popular vote)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7459560" y="4662360"/>
            <a:ext cx="147168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Billion Dollar Congress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amed for lavish spendings, gave pensions to Civil War veterans &amp; increased gov’t purchase of silv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cKinley Tariff Act of 1890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raised tariffs to their highest peacetime level ever (48.4%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ought more trouble to farm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used Republican party to lose support (lose majority in Congress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eveland and the Depression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eveland ran for president again in 1892 ele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ly president to be reelected after defea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at divided Populist party* &amp; discredited Republican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anic of 1893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orst economic downturn for the U.S. during 19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centu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verbuilding &amp; overspecula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abor disorders &amp; agricultural depressio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3222720" y="5111640"/>
            <a:ext cx="181764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64646"/>
                </a:solidFill>
                <a:latin typeface="Lucida Sans Unicode"/>
              </a:rPr>
              <a:t>Sherman Silver Purchase Act of 1890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d by administration of Benjamin Harris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creased amount of silver in circula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used American people to believe less expensive silver was going to replace gold as main form of currenc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merican people began to withdraw their assets in gold, depleting Treasury’s gold supp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ealed by Clevel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6645240" y="5118120"/>
            <a:ext cx="176364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eveland breeds backlash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The 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ilson-Gorman Tariff of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 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189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lowered tariffs &amp; contained 2% tax on incomes over $4,000. 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upreme Court ruled income taxes unconstitutional in 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1895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aused the Democrats to lose positions in Congres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nt, Hayes, Garfield, Arthur, Harrison, and Cleveland were known as the "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orgettable presiden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” or “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o nothing presiden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”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3338640" y="5138640"/>
            <a:ext cx="224460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nest &amp; uprigh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akness: loyalty to his frien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fused to admit that some of his friends used him to advance their own fortun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rrup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3457440" y="3527280"/>
            <a:ext cx="2181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stwar atmosphere very unpleasa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im Fisk &amp; Jay Gould devised plot to raise the price of gol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ought a large amount of gold, planning to sell it for profi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reasury forced to sell gold from its reserves to lower price of gold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s Grant to blame for thi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"/>
          <p:cNvPicPr/>
          <p:nvPr/>
        </p:nvPicPr>
        <p:blipFill>
          <a:blip r:embed="rId2"/>
          <a:stretch/>
        </p:blipFill>
        <p:spPr>
          <a:xfrm>
            <a:off x="6502320" y="4199040"/>
            <a:ext cx="15922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truction company organized by the Union Pacific Railro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ailroad insiders hired themselves at inflated pri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veral times the cost of actual job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any distributed stock to congress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gressmen also involved in cover-u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2851200" y="4659480"/>
            <a:ext cx="334656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gressmen voted themselves 50% pay raise on last day of ses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$5,000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$7,50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troactive for 2 yea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ealed next session due to public outr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iskey distillers who had to pay revenue taxes had to pay double if tried to cheat the governmen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rmers received 19% of tax revenue as a rewar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rmer could collect more by blackmailing the tax evading distill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phoned off millions of dollars on liqu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"/>
          <p:cNvPicPr/>
          <p:nvPr/>
        </p:nvPicPr>
        <p:blipFill>
          <a:blip r:embed="rId2"/>
          <a:stretch/>
        </p:blipFill>
        <p:spPr>
          <a:xfrm>
            <a:off x="3478320" y="4976640"/>
            <a:ext cx="19047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oss Tweed and Tammany Hall controlled the politics of NYC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mployed bribery, graft and fraudulent elections (200 million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t support of immigrants by giving them pres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ft= use of politician’s author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personal ga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muel J. Tilden- NY attorney w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aded prosecution of Twe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ut in pris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"/>
          <p:cNvPicPr/>
          <p:nvPr/>
        </p:nvPicPr>
        <p:blipFill>
          <a:blip r:embed="rId2"/>
          <a:stretch/>
        </p:blipFill>
        <p:spPr>
          <a:xfrm>
            <a:off x="6821640" y="3936960"/>
            <a:ext cx="23223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2247840" y="888840"/>
            <a:ext cx="464832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7T23:07:06Z</dcterms:created>
  <dc:creator>Emily Johnson</dc:creator>
  <dc:description/>
  <dc:language>en-US</dc:language>
  <cp:lastModifiedBy>emily.johnson</cp:lastModifiedBy>
  <dcterms:modified xsi:type="dcterms:W3CDTF">2013-01-09T20:56:32Z</dcterms:modified>
  <cp:revision>13</cp:revision>
  <dc:subject/>
  <dc:title>Chapter 23: Political Paralysis in the Gilded Age</dc:title>
</cp:coreProperties>
</file>